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685440"/>
            <a:ext cx="4781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610A-9383-4AAC-A90F-70D3FDE786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2B13-A85C-4707-B543-6AAF4ED875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ачала выходит понятие - правило, а затем по щелчку два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B9C9-0752-48E5-92CA-4DF1074EE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инка - двое человек между ними какая - нибудь сла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099A-702A-45D3-8763-7785C94B8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е мультфильма если можно ска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29D-F2CE-4C05-88FA-00535B59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21D-EF0D-4105-83FE-DA026D5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2AA-87F2-41DC-9C3C-C5572588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8E7-BF4B-4312-AA91-4EAFDD56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AA1-D2ED-42D2-8EDB-79C98F89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7DFF-A01E-444C-B8B3-60FFCB47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1894-E800-4C48-8416-C6EA8C55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B77C-7B3C-4762-97EF-A2CAC49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CD69-7913-4030-8D61-E9BACA0A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42E9-AB86-4E61-A64A-AC12D556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895D-4CFE-4A2C-85CE-E8CCAC9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11D-53E9-41C1-A3F0-74A73DA9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C58C-E4BD-42BD-8DBF-EBC98A9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2519-2A92-4DA0-9D0C-9BB7E72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731C-71F5-43F8-BAD4-845C67B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9B83-5D67-46CD-A149-96D90C9D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4715-4768-45E5-A675-2878582A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702-37B8-4632-A2F8-BF0F341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CA4-4035-4976-AC16-8AE4F390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1FE-4873-4A7D-90CD-A42123E5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7CA-8149-4467-B75E-A67BCC1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D87-3DA7-4828-87A1-3E0F04D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CC9-129D-4C82-A1C4-1C3006C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869-3865-4DDC-B7BD-9B3439B0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5970240"/>
            <a:ext cx="19051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5970240"/>
            <a:ext cx="2895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5970240"/>
            <a:ext cx="12956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41A-5CD6-47BB-80D4-D1E306B456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29052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01720"/>
            <a:ext cx="228600" cy="21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01720"/>
            <a:ext cx="228600" cy="2174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01720"/>
            <a:ext cx="228600" cy="2174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165320"/>
            <a:ext cx="0" cy="1965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009880"/>
            <a:ext cx="347760" cy="33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011320"/>
            <a:ext cx="349200" cy="331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011320"/>
            <a:ext cx="347760" cy="331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5970240"/>
            <a:ext cx="152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5970240"/>
            <a:ext cx="2895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5970240"/>
            <a:ext cx="12193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D303-DFC0-4BEC-9819-1DD456C20C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116000"/>
            <a:ext cx="70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800000"/>
                </a:solidFill>
                <a:latin typeface="Stylo"/>
              </a:rPr>
              <a:t>Час нравственности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2124000"/>
            <a:ext cx="6477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Учимся договариватьс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и уступ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55614_image_large"/>
          <p:cNvPicPr/>
          <p:nvPr/>
        </p:nvPicPr>
        <p:blipFill>
          <a:blip r:embed="rId2"/>
          <a:stretch/>
        </p:blipFill>
        <p:spPr>
          <a:xfrm>
            <a:off x="4067280" y="3781440"/>
            <a:ext cx="2952720" cy="261936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c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6200" y="36000"/>
            <a:ext cx="5618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Круг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От сердца к серд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147636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друг не смеётся – ты включи ему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включи ему звёзд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исправь ошибку, превращаем в улыб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се грустинки и слёз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оскресенье, суббота: дружба –это не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ть друзья, а для них у друзей нет выход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свалится счастье – подели его на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 раздай всем друзьям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А когда будет надо, все друзья будут ряд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Чтоб включить тебе солнце и звёз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о кругу протянет руку дру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будет видно в иллюминатор дружба – это экв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ланеты другу ромашкою помаш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станет ясно дружба – это планета ром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5476"/>
          <p:cNvPicPr/>
          <p:nvPr/>
        </p:nvPicPr>
        <p:blipFill>
          <a:blip r:embed="rId2"/>
          <a:stretch/>
        </p:blipFill>
        <p:spPr>
          <a:xfrm>
            <a:off x="7093080" y="2124000"/>
            <a:ext cx="20206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52360"/>
            <a:ext cx="5905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tylo"/>
              </a:rPr>
              <a:t>Круг радости. Мы -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360" y="8301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громном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чень разные есть д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ихие и ш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кромные и 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сть худые, есть толс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лчуны и хохо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остом невел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сильный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одних – большие 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других – кругом весн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ыж, а кто-то б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в играх не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 над кем нельзя смея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кого нельзя дразн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ужно очень постар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овно братьев всех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 тогда на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ак чудесно буд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. Дашк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0BA6F60E958[1]"/>
          <p:cNvPicPr/>
          <p:nvPr/>
        </p:nvPicPr>
        <p:blipFill>
          <a:blip r:embed="rId2"/>
          <a:srcRect l="13359" t="0" r="12990" b="0"/>
          <a:stretch/>
        </p:blipFill>
        <p:spPr>
          <a:xfrm>
            <a:off x="7380360" y="1189080"/>
            <a:ext cx="158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4560" y="326520"/>
            <a:ext cx="605016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Разминка «Верев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s"/>
          <p:cNvPicPr/>
          <p:nvPr/>
        </p:nvPicPr>
        <p:blipFill>
          <a:blip r:embed="rId2"/>
          <a:stretch/>
        </p:blipFill>
        <p:spPr>
          <a:xfrm>
            <a:off x="2916360" y="1405080"/>
            <a:ext cx="2944800" cy="213012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5" name="Picture 5" descr="161907596f39cfb20c246794a4be9a1c"/>
          <p:cNvPicPr/>
          <p:nvPr/>
        </p:nvPicPr>
        <p:blipFill>
          <a:blip r:embed="rId3"/>
          <a:stretch/>
        </p:blipFill>
        <p:spPr>
          <a:xfrm>
            <a:off x="6156360" y="1620720"/>
            <a:ext cx="2793960" cy="20988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6" name="Picture 6" descr="0_24ebb_4706e677_L"/>
          <p:cNvPicPr/>
          <p:nvPr/>
        </p:nvPicPr>
        <p:blipFill>
          <a:blip r:embed="rId4"/>
          <a:stretch/>
        </p:blipFill>
        <p:spPr>
          <a:xfrm>
            <a:off x="3708360" y="3902040"/>
            <a:ext cx="3533760" cy="23544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82520"/>
            <a:ext cx="5257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Stylo"/>
              </a:rPr>
              <a:t>Мы – это я и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356000" y="2933640"/>
            <a:ext cx="2016360" cy="122400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949480" y="1387440"/>
            <a:ext cx="18716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979640" y="3083040"/>
            <a:ext cx="2016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6689880" y="3094200"/>
            <a:ext cx="2376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ё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914560" y="4716360"/>
            <a:ext cx="2089080" cy="720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33080" y="4775760"/>
            <a:ext cx="2045880" cy="695160"/>
          </a:xfrm>
          <a:prstGeom prst="rect">
            <a:avLst/>
          </a:prstGeom>
          <a:blipFill rotWithShape="0">
            <a:blip r:embed="rId6"/>
            <a:stretch/>
          </a:blipFill>
          <a:ln w="57240">
            <a:solidFill>
              <a:srgbClr val="80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Я и все, кто бы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о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1405080"/>
            <a:ext cx="208764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брат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25"/>
          <p:cNvCxnSpPr>
            <a:stCxn id="108" idx="0"/>
            <a:endCxn id="109" idx="2"/>
          </p:cNvCxnSpPr>
          <p:nvPr/>
        </p:nvCxnSpPr>
        <p:spPr>
          <a:xfrm flipH="1" flipV="1">
            <a:off x="3885480" y="2329920"/>
            <a:ext cx="1478520" cy="5947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6" name="AutoShape 26"/>
          <p:cNvCxnSpPr>
            <a:stCxn id="108" idx="0"/>
            <a:endCxn id="114" idx="2"/>
          </p:cNvCxnSpPr>
          <p:nvPr/>
        </p:nvCxnSpPr>
        <p:spPr>
          <a:xfrm flipV="1">
            <a:off x="5363640" y="2347200"/>
            <a:ext cx="1477080" cy="577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7" name="AutoShape 27"/>
          <p:cNvCxnSpPr>
            <a:stCxn id="108" idx="1"/>
            <a:endCxn id="110" idx="3"/>
          </p:cNvCxnSpPr>
          <p:nvPr/>
        </p:nvCxnSpPr>
        <p:spPr>
          <a:xfrm flipH="1" flipV="1">
            <a:off x="4024080" y="3539520"/>
            <a:ext cx="629280" cy="684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8" name="AutoShape 28"/>
          <p:cNvCxnSpPr>
            <a:stCxn id="108" idx="3"/>
            <a:endCxn id="111" idx="1"/>
          </p:cNvCxnSpPr>
          <p:nvPr/>
        </p:nvCxnSpPr>
        <p:spPr>
          <a:xfrm>
            <a:off x="6075000" y="3546360"/>
            <a:ext cx="586440" cy="57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9" name="AutoShape 29"/>
          <p:cNvCxnSpPr>
            <a:stCxn id="108" idx="2"/>
            <a:endCxn id="112" idx="0"/>
          </p:cNvCxnSpPr>
          <p:nvPr/>
        </p:nvCxnSpPr>
        <p:spPr>
          <a:xfrm flipH="1">
            <a:off x="3958920" y="4167360"/>
            <a:ext cx="1405440" cy="5212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20" name="AutoShape 30"/>
          <p:cNvCxnSpPr>
            <a:stCxn id="108" idx="2"/>
            <a:endCxn id="113" idx="0"/>
          </p:cNvCxnSpPr>
          <p:nvPr/>
        </p:nvCxnSpPr>
        <p:spPr>
          <a:xfrm>
            <a:off x="5364000" y="4167360"/>
            <a:ext cx="1493280" cy="54360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51280" y="180720"/>
            <a:ext cx="461016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Нуж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87640" y="1405080"/>
            <a:ext cx="5616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Правило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ановление, предписание, устанавливающее порядок чего – 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Договор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соглашение, обычно письменное, о взаимных обязанност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Соглашение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взаимное согласие, договорённость. Договор, устанавливающий какие – нибудь условия, взаимоотношения, права и обязанности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3280" y="182160"/>
            <a:ext cx="5832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34920" y="5148000"/>
            <a:ext cx="40561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ладкая проблем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7_560_05"/>
          <p:cNvPicPr/>
          <p:nvPr/>
        </p:nvPicPr>
        <p:blipFill>
          <a:blip r:embed="rId2"/>
          <a:stretch/>
        </p:blipFill>
        <p:spPr>
          <a:xfrm>
            <a:off x="3492360" y="1692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000" y="182160"/>
            <a:ext cx="622764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3280" y="1547640"/>
            <a:ext cx="55465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Покажи предм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028000" y="612720"/>
            <a:ext cx="143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4356000" y="3348000"/>
            <a:ext cx="2376720" cy="2665440"/>
            <a:chOff x="4356000" y="3348000"/>
            <a:chExt cx="2376720" cy="2665440"/>
          </a:xfrm>
        </p:grpSpPr>
        <p:sp>
          <p:nvSpPr>
            <p:cNvPr id="130" name="Oval 4"/>
            <p:cNvSpPr/>
            <p:nvPr/>
          </p:nvSpPr>
          <p:spPr>
            <a:xfrm>
              <a:off x="4356000" y="3348000"/>
              <a:ext cx="2376720" cy="26654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5003640" y="4068720"/>
              <a:ext cx="1150920" cy="115272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6"/>
          <p:cNvSpPr/>
          <p:nvPr/>
        </p:nvSpPr>
        <p:spPr>
          <a:xfrm>
            <a:off x="4788000" y="2124000"/>
            <a:ext cx="1512720" cy="1441440"/>
          </a:xfrm>
          <a:prstGeom prst="smileyFace">
            <a:avLst>
              <a:gd name="adj" fmla="val 928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708360" y="3348000"/>
            <a:ext cx="934920" cy="936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43640" y="3348000"/>
            <a:ext cx="936720" cy="9367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76720" y="468360"/>
            <a:ext cx="47512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3640" y="2340000"/>
            <a:ext cx="4127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чёт на пальц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_4c6f93c9be689"/>
          <p:cNvPicPr/>
          <p:nvPr/>
        </p:nvPicPr>
        <p:blipFill>
          <a:blip r:embed="rId2"/>
          <a:srcRect l="14801" t="0" r="16484" b="0"/>
          <a:stretch/>
        </p:blipFill>
        <p:spPr>
          <a:xfrm>
            <a:off x="2771640" y="3162240"/>
            <a:ext cx="6228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182160"/>
            <a:ext cx="590544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Басня А.М. Крылова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Лебедь, рак и щу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Лебедь рак да щука.wmv" descr=""/>
          <p:cNvPicPr/>
          <p:nvPr/>
        </p:nvPicPr>
        <p:blipFill>
          <a:blip r:embed="rId2"/>
          <a:stretch/>
        </p:blipFill>
        <p:spPr>
          <a:xfrm>
            <a:off x="3203640" y="158436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12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4:48Z</dcterms:created>
  <dc:creator>Svetlana</dc:creator>
  <dc:description/>
  <dc:language>en-US</dc:language>
  <cp:lastModifiedBy>Admin</cp:lastModifiedBy>
  <dcterms:modified xsi:type="dcterms:W3CDTF">2012-12-06T04:16:11Z</dcterms:modified>
  <cp:revision>51</cp:revision>
  <dc:subject/>
  <dc:title>Мы - разные</dc:title>
</cp:coreProperties>
</file>